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67A5-A6BB-4780-9C14-90064B123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6520" y="160020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7652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7EA3-E270-4674-98D7-CC4A44F7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652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520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7652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2520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9B5A-39AE-4133-832C-307ADB88B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52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4972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292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7652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4972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292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17B6-B054-4646-A58A-241C24D6D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DE92-764B-4BF3-8078-967AACAB6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765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CA34-D5EE-4CC0-9D57-CB8FD608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765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D54A-3C0F-4339-8E19-F3E8A47C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52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520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7B3B-1BCC-4860-9D6E-D8A2559F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C151-9101-43AB-B6D1-D84A3E8E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7652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A2EC-E889-4BEF-AA9A-B843F2EC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7652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520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67652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1702-8B40-41A0-BFA1-047EE753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765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3D6E-5D18-4476-BFA1-D4E2C1EF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7652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520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520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6104-4557-4897-AF88-BB6E581E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7652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520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7652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B15E-5FC4-42A8-A8A3-FC95A764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76520" y="160020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67652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4935-C316-4415-B435-F4A98308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7652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520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7652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520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26595-C227-4DAB-8669-102B307C1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7652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4972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292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67652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4972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292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54AB-3981-4152-983D-054C217E1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765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9978-5AEE-4A88-A802-6525DDD6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7652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2520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E17D-E861-4C72-B341-6C1C6687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6D38-9F7C-4530-A312-45B68998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7652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6DCD-FC90-4F69-93DF-0ACCD7EF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7652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520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7652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9700-20A4-44AA-82B8-8674017F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652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520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2520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E1FF-D1EC-42BC-A25E-62D1334F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52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2520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7652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AB25-BC3D-4B5C-A4E4-4702F023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5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C0A2-D153-477A-857F-F89F86E04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765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1B06-D503-482F-B8D9-56F544244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qla.com.au/" TargetMode="External"/><Relationship Id="rId3" Type="http://schemas.openxmlformats.org/officeDocument/2006/relationships/hyperlink" Target="http://www.qla.com.au/" TargetMode="External"/><Relationship Id="rId4" Type="http://schemas.openxmlformats.org/officeDocument/2006/relationships/hyperlink" Target="http://www.qla.com.au/" TargetMode="External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Lauren%20-%20French%20exam%20-%20The%20Catherine%20Tate%20Show%20-%20BBC%20comedy.mp4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ch&#233;%20!La%20France%20vue%20de%20l&#233;tranger.mp4" TargetMode="External"/><Relationship Id="rId3" Type="http://schemas.openxmlformats.org/officeDocument/2006/relationships/hyperlink" Target="file:///L&apos;art%20de%20la%20bise.mp4" TargetMode="Externa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Martian%20Family%20Portfolio%20Piece%202.doc" TargetMode="External"/><Relationship Id="rId3" Type="http://schemas.openxmlformats.org/officeDocument/2006/relationships/hyperlink" Target="file:///Term%201%20Carte%20Postale%20assignment%20task%20sheet.doc" TargetMode="External"/><Relationship Id="rId4" Type="http://schemas.openxmlformats.org/officeDocument/2006/relationships/hyperlink" Target="file:///Year%208%20French%20Storybook%20Assignment.doc" TargetMode="External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qla.com.au/" TargetMode="External"/><Relationship Id="rId3" Type="http://schemas.openxmlformats.org/officeDocument/2006/relationships/hyperlink" Target="http://www.qla.com.au/" TargetMode="External"/><Relationship Id="rId4" Type="http://schemas.openxmlformats.org/officeDocument/2006/relationships/hyperlink" Target="http://www.qla.com.au/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18255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Formative and Summative Assessment Prac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8108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For Primary French Tea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75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Formative assessment to begin the less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42560" y="1196640"/>
            <a:ext cx="8101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What did we learn last less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Sit with a partner. You have 30 seconds to tell them one thing you remember from last le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Now swap! You have to tell your next partner the one thing you remembered plus the thing the other person told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And so 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In 3 minutes, your students should have revised many things from the last less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75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Formative assessment to begin the less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547640" y="1196640"/>
            <a:ext cx="7444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What did we learn last less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Stand with a partner. Each takes a turn saying one thing they remember that happened last lesson. Once a person runs out of things, they sit down. The other partner moves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The winners verse each other, until you get to one student who remembered the mos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This should tell you a lot visually in a matter of minutes about who is keeping up in clas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75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Formative assessment to begin the less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402920" y="1196640"/>
            <a:ext cx="7588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What did we learn last less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Students write down 3 things they remember from last le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Teacher writes up 3-5 things he/she taught last le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Teacher asks class for each thing listed a show of hands about who had it written down, and makes a t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You should be able to quickly see what your students learnt well, and what has not yet sunk i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19280" y="1699920"/>
            <a:ext cx="73152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Formative assessment during the les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75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Formative assessment during the less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47640" y="1196640"/>
            <a:ext cx="7444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What are we learning this less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Give a set of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Ask the students to hold up one hand showing a finger rating from 1-3 indicating how much they understood about the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Or, create a traffic light system where each student has a red, orange and green card. They show the colour which best reflects their underst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75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Formative assessment during the less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47640" y="1196640"/>
            <a:ext cx="7444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Do we have the time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Indicate on the fingers of one hand how many more minutes you need to complete thi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75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Formative assessment during the less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547640" y="1196640"/>
            <a:ext cx="7444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Kristen ITC"/>
              </a:rPr>
              <a:t>Let’s have fu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Kristen ITC"/>
              </a:rPr>
              <a:t>Games are an ideal way to formatively assess your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Kristen ITC"/>
              </a:rPr>
              <a:t>You can learn a lot about their level of progress with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Kristen ITC"/>
              </a:rPr>
              <a:t>Mo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Kristen ITC"/>
              </a:rPr>
              <a:t>Around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Kristen ITC"/>
              </a:rPr>
              <a:t>One Step/ Pac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Kristen ITC"/>
              </a:rPr>
              <a:t>Simon s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Kristen ITC"/>
              </a:rPr>
              <a:t>Dog and B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Kristen ITC"/>
              </a:rPr>
              <a:t>Ship to Sh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Kristen ITC"/>
              </a:rPr>
              <a:t>Survey r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8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8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8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8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19280" y="1699920"/>
            <a:ext cx="73152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Formative assessment to end the les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75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Formative assessment to end the less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547640" y="1196640"/>
            <a:ext cx="7444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What did we learn this less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Hold up one hand showing a finger rating from 1-3 indicating how much you understood about what we did this le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Give yourself a rating out of 10 for how well you understood what we learnt this lesson, now make a line from highest number to lo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75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Formative assessment to end the less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47640" y="1196640"/>
            <a:ext cx="7444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What did we learn this less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On the board, have a 5 scale rating (e.g. different animals, numbers, letters…) and before students leave the room, they put their name/icon somewhere on the r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This should show you consistently who needs help, and who is doing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8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19280" y="1699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Kristen ITC"/>
              </a:rPr>
              <a:t>Our experience is different from that of a high school teacher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1692360" y="378936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risten ITC"/>
              </a:rPr>
              <a:t>Sometimes, this is a fortunate thing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75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Formative assessment to end the less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547640" y="1196640"/>
            <a:ext cx="7444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What did we learn this less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Before you let students leave the room, have them line up at the classroom door and as they leave, tell you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one thing they learnt that le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a French word we use in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a pet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a particular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or whatever they have been learn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8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8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8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8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8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19280" y="1699920"/>
            <a:ext cx="73152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Formative assessment beyond the les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75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Formative assessment beyond the less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547640" y="1196640"/>
            <a:ext cx="7444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What are you learning in Fren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Ask your students to do one piece of homework after every lesson: teach someone three things they lear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Ask your students to bring in evidence that they have used French outside the class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Run a photography competition where the students take a photo of themselves with something ‘French’ they see in their daily lif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8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8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8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75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Formative assessment beyond the less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547640" y="1196640"/>
            <a:ext cx="7444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What are you learning in Fren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Get your students’ classroom teacher on board- how many new things can they teach him/her each week? Get them to keep a tally in the classroo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Kristen ITC"/>
              </a:rPr>
              <a:t>Other types of formative assess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6765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Conf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Exercise book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Completion of class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8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9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6" dur="8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7" dur="8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Kristen ITC"/>
              </a:rPr>
              <a:t>Student self-assess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6765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Kristen ITC"/>
              </a:rPr>
              <a:t>David Langford’s Tool Time For Edu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5b6b00"/>
                </a:solidFill>
                <a:uFillTx/>
                <a:latin typeface="Kristen ITC"/>
                <a:hlinkClick r:id="rId2"/>
              </a:rPr>
              <a:t>http://</a:t>
            </a:r>
            <a:r>
              <a:rPr b="0" lang="en-AU" sz="2800" spc="-1" strike="noStrike" u="sng">
                <a:solidFill>
                  <a:srgbClr val="5b6b00"/>
                </a:solidFill>
                <a:uFillTx/>
                <a:latin typeface="Kristen ITC"/>
                <a:hlinkClick r:id="rId3"/>
              </a:rPr>
              <a:t>www.qla.com.au</a:t>
            </a:r>
            <a:r>
              <a:rPr b="0" lang="en-AU" sz="2800" spc="-1" strike="noStrike" u="sng">
                <a:solidFill>
                  <a:srgbClr val="5b6b00"/>
                </a:solidFill>
                <a:uFillTx/>
                <a:latin typeface="Kristen ITC"/>
                <a:hlinkClick r:id="rId4"/>
              </a:rPr>
              <a:t>/</a:t>
            </a:r>
            <a:r>
              <a:rPr b="0" lang="en-AU" sz="2800" spc="-1" strike="noStrike">
                <a:solidFill>
                  <a:srgbClr val="000000"/>
                </a:solidFill>
                <a:latin typeface="Kristen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Kristen ITC"/>
              </a:rPr>
              <a:t>Capacity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3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9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0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Kristen ITC"/>
              </a:rPr>
              <a:t>Summative assess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6765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Students should be assesse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Liste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Spe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Kristen ITC"/>
              </a:rPr>
              <a:t>Summative assess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47640" y="1600200"/>
            <a:ext cx="744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Kristen ITC"/>
              </a:rPr>
              <a:t>Types of assess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Kristen ITC"/>
              </a:rPr>
              <a:t>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Kristen ITC"/>
              </a:rPr>
              <a:t>Assignments (take home/ in-cla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Kristen ITC"/>
              </a:rPr>
              <a:t>Speaking tasks (role plays, intervie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Kristen ITC"/>
              </a:rPr>
              <a:t>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Kristen ITC"/>
              </a:rPr>
              <a:t>Quizz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Kristen ITC"/>
              </a:rPr>
              <a:t>Class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Kristen ITC"/>
              </a:rPr>
              <a:t>In-class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Kristen ITC"/>
              </a:rPr>
              <a:t>Summative assess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86920" y="1600200"/>
            <a:ext cx="780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Criteria, marking grids and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Do your students know how their grade is gener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Do your students know what you are looking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How can your students clarify their tas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How do they know if they have done a good jo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7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8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9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5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6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1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3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8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9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0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5" dur="8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6" dur="8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7" dur="8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19280" y="1699920"/>
            <a:ext cx="73152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Intercultural Understan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4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The Catherine Tate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403280" y="907560"/>
            <a:ext cx="73152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5b6b00"/>
                </a:solidFill>
                <a:uFillTx/>
                <a:latin typeface="Kristen ITC"/>
                <a:hlinkClick r:id="rId2"/>
              </a:rPr>
              <a:t>A French Speaking Ex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9280" y="1699920"/>
            <a:ext cx="73152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ELA15: The student communicates with intercultural understan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3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4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5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19280" y="1699920"/>
            <a:ext cx="73152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How can we approach the intercultural in cla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4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47640" y="1052640"/>
            <a:ext cx="731520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How can we approach the intercultural in class?</a:t>
            </a:r>
            <a:br>
              <a:rPr sz="4000"/>
            </a:br>
            <a:br>
              <a:rPr sz="4000"/>
            </a:br>
            <a:r>
              <a:rPr b="0" lang="en-US" sz="3000" spc="-1" strike="noStrike" u="sng">
                <a:solidFill>
                  <a:srgbClr val="5b6b00"/>
                </a:solidFill>
                <a:uFillTx/>
                <a:latin typeface="Kristen ITC"/>
                <a:hlinkClick r:id="rId2"/>
              </a:rPr>
              <a:t>Looking at stereotypes</a:t>
            </a:r>
            <a:br>
              <a:rPr sz="3000"/>
            </a:br>
            <a:br>
              <a:rPr sz="3000"/>
            </a:br>
            <a:r>
              <a:rPr b="0" lang="en-US" sz="3000" spc="-1" strike="noStrike" u="sng">
                <a:solidFill>
                  <a:srgbClr val="5b6b00"/>
                </a:solidFill>
                <a:uFillTx/>
                <a:latin typeface="Kristen ITC"/>
                <a:hlinkClick r:id="rId3"/>
              </a:rPr>
              <a:t>Cultural practices seen from outside</a:t>
            </a:r>
            <a:br>
              <a:rPr sz="4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31640" y="27432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Kristen ITC"/>
              </a:rPr>
              <a:t>Intercultural Understand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187280" y="1341360"/>
            <a:ext cx="795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We all have a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What is your cultural backgrou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How is your family culture different from your best friend’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Have you ever felt uncomfortable with another family’s culture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Cultural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What is important to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Who else values what you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When and why did you start to value those thin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3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8" dur="8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0" dur="8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5" dur="8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7" dur="8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4" dur="8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9" dur="8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0" dur="8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1" dur="8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4" dur="8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8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1" dur="8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2" dur="8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31640" y="27432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Kristen ITC"/>
              </a:rPr>
              <a:t>Intercultural Understand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87280" y="1600200"/>
            <a:ext cx="79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Comparing and contr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What is famili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What is foreig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Developing empat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How would you feel if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How would you respond in a satiation? How might oth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Different, but eq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What makes you think our way is be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9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0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1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6" dur="8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7" dur="8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8" dur="8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3" dur="8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4" dur="8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5" dur="8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0" dur="8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1" dur="8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2" dur="8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7" dur="8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8" dur="8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9" dur="8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4" dur="8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5" dur="8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6" dur="8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8" dur="8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9" dur="8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0" dur="8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31640" y="27432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Kristen ITC"/>
              </a:rPr>
              <a:t>Intercultural Understand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187280" y="1600200"/>
            <a:ext cx="79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Some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6b00"/>
                </a:solidFill>
                <a:uFillTx/>
                <a:latin typeface="Kristen ITC"/>
                <a:hlinkClick r:id="rId2"/>
              </a:rPr>
              <a:t>Year 5 Martian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6b00"/>
                </a:solidFill>
                <a:uFillTx/>
                <a:latin typeface="Kristen ITC"/>
                <a:hlinkClick r:id="rId3"/>
              </a:rPr>
              <a:t>Year 7 Post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6b00"/>
                </a:solidFill>
                <a:uFillTx/>
                <a:latin typeface="Kristen ITC"/>
                <a:hlinkClick r:id="rId4"/>
              </a:rPr>
              <a:t>Year 8 Story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31640" y="27432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Kristen ITC"/>
              </a:rPr>
              <a:t>Intercultural Understand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187280" y="1600200"/>
            <a:ext cx="79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What have you come up wi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1699920"/>
            <a:ext cx="73152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Merci tout le mond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8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19280" y="1699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Kristen ITC"/>
              </a:rPr>
              <a:t>Our experience is different from that of a high school teacher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1692360" y="378936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risten ITC"/>
              </a:rPr>
              <a:t>But this can make our job much more difficult too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9236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Kristen ITC"/>
              </a:rPr>
              <a:t>A few of our challenges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115640" y="1125360"/>
            <a:ext cx="7875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Raise your hand i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risten ITC"/>
              </a:rPr>
              <a:t>You teach multiple year lev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risten ITC"/>
              </a:rPr>
              <a:t>You see each class for less than 90 minutes per wee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risten ITC"/>
              </a:rPr>
              <a:t>You work with more than one time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risten ITC"/>
              </a:rPr>
              <a:t>You teach over 150 students per wee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risten ITC"/>
              </a:rPr>
              <a:t>You are unlikely to have 10 lessons per term with your classes (after sports carnivals, NAPLAN, excursions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risten ITC"/>
              </a:rPr>
              <a:t>You also teach high school stud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risten ITC"/>
              </a:rPr>
              <a:t>You work at more than one scho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risten ITC"/>
              </a:rPr>
              <a:t>You assess and report on all your stud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Kristen ITC"/>
              </a:rPr>
              <a:t>So how do we.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547640" y="1600200"/>
            <a:ext cx="744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Get to know our stu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Make effective use of our limited ti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Engage our students in formative assess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Undertake summative assess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9236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Kristen ITC"/>
              </a:rPr>
              <a:t>Formative assess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47640" y="1052280"/>
            <a:ext cx="74440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Kristen ITC"/>
              </a:rPr>
              <a:t>Cowie and Bell define formative assessment as "the process used by teachers and students to recognise and respond to student learning in order to enhance that learning, during the learn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Kristen ITC"/>
              </a:rPr>
              <a:t>To inform your te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Kristen ITC"/>
              </a:rPr>
              <a:t>Focuses on qualitative feedback on knowledge and skills rather than quantita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Kristen ITC"/>
              </a:rPr>
              <a:t>Student self-assess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6765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Kristen ITC"/>
              </a:rPr>
              <a:t>David Langford’s Tool Time For Edu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5b6b00"/>
                </a:solidFill>
                <a:uFillTx/>
                <a:latin typeface="Kristen ITC"/>
                <a:hlinkClick r:id="rId2"/>
              </a:rPr>
              <a:t>http://</a:t>
            </a:r>
            <a:r>
              <a:rPr b="0" lang="en-AU" sz="2800" spc="-1" strike="noStrike" u="sng">
                <a:solidFill>
                  <a:srgbClr val="5b6b00"/>
                </a:solidFill>
                <a:uFillTx/>
                <a:latin typeface="Kristen ITC"/>
                <a:hlinkClick r:id="rId3"/>
              </a:rPr>
              <a:t>www.qla.com.au</a:t>
            </a:r>
            <a:r>
              <a:rPr b="0" lang="en-AU" sz="2800" spc="-1" strike="noStrike" u="sng">
                <a:solidFill>
                  <a:srgbClr val="5b6b00"/>
                </a:solidFill>
                <a:uFillTx/>
                <a:latin typeface="Kristen ITC"/>
                <a:hlinkClick r:id="rId4"/>
              </a:rPr>
              <a:t>/</a:t>
            </a:r>
            <a:r>
              <a:rPr b="0" lang="en-AU" sz="2800" spc="-1" strike="noStrike">
                <a:solidFill>
                  <a:srgbClr val="000000"/>
                </a:solidFill>
                <a:latin typeface="Kristen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19280" y="1699920"/>
            <a:ext cx="73152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Formative assessment to begin the les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7,-37,-5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7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05:07:37Z</dcterms:created>
  <dc:creator>DanielLambert</dc:creator>
  <dc:description/>
  <dc:language>en-US</dc:language>
  <cp:lastModifiedBy>ctl_16</cp:lastModifiedBy>
  <dcterms:modified xsi:type="dcterms:W3CDTF">2011-09-24T00:51:04Z</dcterms:modified>
  <cp:revision>43</cp:revision>
  <dc:subject/>
  <dc:title>Formative and Summative Assessment Practices</dc:title>
</cp:coreProperties>
</file>